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FF68-CBD3-466E-B1B8-4A43452988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F66-24D0-4801-A4D7-E33FD1672B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683-9A72-428D-B6E5-A1713DFE60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B9D-0633-4D28-8AE6-0E3CBD56B7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4878-52AD-489F-B643-1F86CA3680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2B0-E7E5-44B7-A38B-F3EE4B80EE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EA3-54EF-4E83-A8D2-956418628B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8FDA-D776-48F7-A1ED-8EB73608DD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6D2-BFAD-45E2-8849-4569EC2718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9121-CC81-439D-BCD4-0BC71D2ACF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E9B-08F4-430E-9CA4-9949AB72AA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6C5D-F399-48B8-A359-19ACAF768B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DA6-1FF9-4FFE-B0A0-3B5E73FDF8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37C-E342-4E4F-98E9-6659706A26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47D-7E40-4125-BFF1-4EA338925A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F14-8A1A-49AE-B2CA-EAAE48C50D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8851-6E1C-4CCA-85B5-9578A80A68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B70-1FD2-4D22-8D53-B98F5F8B43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B7E5-D5F5-43CB-A26A-A7C97E1C42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A985-7D9B-4093-A81B-9205B71F18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581-7314-475A-9F70-D987407ECF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A3D-89CA-4499-9504-3715BC65DA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D412-EBF8-48F5-B98D-7E35D3E66B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C96D-CACE-4CED-87F0-F6C8CB47E0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E20-1B33-4B74-99F7-5FAFD75E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7C3-6F1B-4121-B273-CF9C0FE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F0E-2B6A-4228-9BA0-4EC3B099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4E5-D2A1-4416-BBB8-4BE08546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59E-BC37-45A9-9860-043FDB62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2FB-7BE7-41AF-A3FA-3D843D0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2E94-F079-4B82-86B7-BF7FF13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43CC-DE25-4A11-A89B-18B09E4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BED8-29AC-4275-A3DA-B897F3F1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B62D-D6A6-43A8-A852-A918968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30CA-B702-4606-AAF2-7F188A7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410-CC41-47EA-AA21-284B032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DA8-B5E1-4836-B083-CB1150BC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2978-64F4-4354-B43C-47317365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4ED-1D10-4171-9748-A901442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F76C-0D63-49FF-BDC5-F93411A6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499A-31AF-43CA-AFFC-FE91071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03C3C-4427-46DC-8096-1FE6580F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677CE-E963-4D08-8816-7291B02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A8131-1480-423A-B2FC-9679E79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CC718-5924-40F7-AB0B-3BAA826A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5F68B-DDA0-49F4-9E82-D1D6ED4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4B6-98CD-418C-A872-322A4B8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133D7-A653-4D0E-9055-08AAC33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21825-1944-4C98-9F9E-8F66D40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03B20-8070-42D6-9ED2-1618A1D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26FB2-A4DF-4BB0-B085-697AFB0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256FC-8A15-4ADE-A513-7E7533C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57EA5-729D-4968-8F5B-F46BDF09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0038F-DC17-4CFE-8A54-23D137B2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45ED-1E1B-4DFF-90F9-2C99C513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8CCF-216D-4993-8A1F-D1C438C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E3E9-7FE1-4CC5-81C7-0E6B79E9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B25-2D46-4B20-8464-E7DF8EE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E074-3F75-4432-9537-AA9DEB6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D989-C7FD-4133-A7DE-381D630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9984-EDFA-45FC-8676-F4D696C8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EACB-5F5B-47F5-AC06-4A1FB14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810F-78CA-450C-8F48-011ADA5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9BC6-CC4F-435D-9565-5734985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47E0-B2D6-427D-8607-D163BFF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7FFB-B52A-409A-8A10-476118F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C7FF-8B47-402C-BCCD-A6C3371A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B92-21B1-428F-AB09-712EA04E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42D-BE9B-422E-A60D-CFBDA3A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6E7-F796-42CC-8578-8B2EBD5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19F-6BB0-49A2-AE71-870A192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FE4-D634-449F-AEAD-C7A3DA6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3A4C-4C0E-4944-8BB6-5EAC5064118C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1DD-3240-468A-B8BE-A4DA389CE85E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C95-27A7-4279-993D-9A386FB2BEF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8946-8255-4648-A103-518CF5AD349B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Carnot_heat_engine_2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현대기술과 공학은 응용과학인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4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열과 일의 관계에 대한 줄의 실험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1845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2249640"/>
            <a:ext cx="45464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830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년대부터 모터 설계 및 경제적 효율 측정 문제에 몰두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무게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파운드의 물의 온도를 화씨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도만큼 올리기 위해서는 무게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90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파운드의 물체를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피트 높이에서 낙하시켜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‘열의 역학적 등가량’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높은 곳에 있던 추가 낮은 곳으로 떨어지며 일을 수행한 만큼 열이 생산되듯이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증기기관에서는 높은 온도에서 낮은 온도로 떨어지며 열이 소비된 만큼 일이 생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_x69453024" descr="EMB00000dd03d65"/>
          <p:cNvPicPr/>
          <p:nvPr/>
        </p:nvPicPr>
        <p:blipFill>
          <a:blip r:embed="rId1"/>
          <a:stretch/>
        </p:blipFill>
        <p:spPr>
          <a:xfrm>
            <a:off x="5003640" y="2060640"/>
            <a:ext cx="3456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자기 상호 작용의 발견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_x69473696" descr="EMB00000dd03d66"/>
          <p:cNvPicPr/>
          <p:nvPr/>
        </p:nvPicPr>
        <p:blipFill>
          <a:blip r:embed="rId1"/>
          <a:stretch/>
        </p:blipFill>
        <p:spPr>
          <a:xfrm>
            <a:off x="4572000" y="2133720"/>
            <a:ext cx="3456000" cy="39463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113800" y="609300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패러데이의 전자기 회전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2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_x69388840" descr="EMB00000dd03d67"/>
          <p:cNvPicPr/>
          <p:nvPr/>
        </p:nvPicPr>
        <p:blipFill>
          <a:blip r:embed="rId2"/>
          <a:stretch/>
        </p:blipFill>
        <p:spPr>
          <a:xfrm>
            <a:off x="971640" y="1916280"/>
            <a:ext cx="2736720" cy="17776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1348560" y="357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외르스테드 효과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20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249720" cy="2089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1278000" y="62373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패러데이의 전자기 유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3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실용적 전기 기술의 도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신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36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경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와 발전기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6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중앙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력 시스템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8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러한 지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?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 발생하는 이유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usal capacity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를 인간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ans-en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 번역하는 과정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과정에서 최초의 응용에서는 생각지 않았던 수많은 부가적 요소 함께 고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 이론 없이는 기술 발전 불가능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명확한 설명 없이도 특정한 방식으로 특정한 결과를 산출하는 좋은 기법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방법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설계에 대한 지식 가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많은 약품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합금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등은 여전히 시행착오의 방법으로 개발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문제에 대한 해답을 과학 이론이 제공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적 해결 뒤에 과학적 설명이 따르는 경우 많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오히려 기술 발전은 관련 과학 분야의 형성에도 기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터보제트 엔진은 초음속 기체역학을 탄생시킴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트랜지스터의 발명이 고체물리학을 탄생시킴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경제적 유인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만을 기술에 유관한 지식으로 생각하는 문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자연적 지식뿐 아니라 심리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경제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사회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리고 기술적 지식까지 모두 필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기 기술의 경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은 과학과 상이한 활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11280" y="2421000"/>
          <a:ext cx="7200720" cy="2592360"/>
        </p:xfrm>
        <a:graphic>
          <a:graphicData uri="http://schemas.openxmlformats.org/drawingml/2006/table">
            <a:tbl>
              <a:tblPr/>
              <a:tblGrid>
                <a:gridCol w="992160"/>
                <a:gridCol w="2560680"/>
                <a:gridCol w="364788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과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기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지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응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대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자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인공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동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지적 호기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질적 유용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목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설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예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과 이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디자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발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개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4"/>
          <p:cNvSpPr/>
          <p:nvPr/>
        </p:nvSpPr>
        <p:spPr>
          <a:xfrm>
            <a:off x="611280" y="522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과학과 기술은 동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목적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대상이 다른 서로 구분되는 활동으로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과학자와 기술자 사회 역시 상이한 가치체계를 가진 상이한 집단이다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1412640" y="6093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이것만으로 응용과학 테제 손쉽게 비판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가능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응용과학 테제에서도 과학과 기술이 다른 목적을 가진다는 것은 인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만 과학적 지식을 응용하여 그 목적을 이룬다고 생각할 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식으로서의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 지식과 독자적인 기술 지식이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최대 효율을 얻기 위한 최적화 조건에 대한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과적인 디자인에 대한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요구조건을 절충하는 디자인 능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학자는 바로 이러한 종류의 지식을 갖춘 전문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이것이 중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지식의 존재가 부각되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적 지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응용이라는 견해를 결정적으로 반박하게 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지식의 몇몇 특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많은 부분 암묵적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솜씨나 방법은 말로 전수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.g.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자전거 타기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뻑뻑한 자물쇠 열기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운하 건설 비법은 대체로 구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맹 기술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화되지 않는 개별적 사례에 기반한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럴 땐 이렇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럴 땐 저렇게 하면 된다는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지만 일반화하여 공식화하기 어려운 경우 많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제적 형태가 아닌 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각적 형태의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립도의 형태의 지식은 참 거짓이 아닌 절차에 관한 요약에 가까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용도의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도끼 형태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그림 3" descr="IMG_8913.JPG"/>
          <p:cNvPicPr/>
          <p:nvPr/>
        </p:nvPicPr>
        <p:blipFill>
          <a:blip r:embed="rId1"/>
          <a:stretch/>
        </p:blipFill>
        <p:spPr>
          <a:xfrm>
            <a:off x="4284720" y="1197000"/>
            <a:ext cx="43909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내용 개체 틀 3" descr="IMG_8926.JPG"/>
          <p:cNvPicPr/>
          <p:nvPr/>
        </p:nvPicPr>
        <p:blipFill>
          <a:blip r:embed="rId1"/>
          <a:stretch/>
        </p:blipFill>
        <p:spPr>
          <a:xfrm>
            <a:off x="642960" y="2000160"/>
            <a:ext cx="5033880" cy="3335400"/>
          </a:xfrm>
          <a:prstGeom prst="rect">
            <a:avLst/>
          </a:prstGeom>
          <a:ln w="0">
            <a:noFill/>
          </a:ln>
        </p:spPr>
      </p:pic>
      <p:pic>
        <p:nvPicPr>
          <p:cNvPr id="279" name="그림 4" descr="IMG_8927.JPG"/>
          <p:cNvPicPr/>
          <p:nvPr/>
        </p:nvPicPr>
        <p:blipFill>
          <a:blip r:embed="rId2"/>
          <a:stretch/>
        </p:blipFill>
        <p:spPr>
          <a:xfrm>
            <a:off x="5929200" y="200016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541160" y="551664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레오나르도 다 빈치의 톱니바퀴 조립도와 분해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 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응용과학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은 과학 이론의 응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건축과 기계는 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증기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연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트엔진은 열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디오는 전자기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핵발전과 핵폭탄은 상대성이론과 양자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반도체는 고체물리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학과 약학은 화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학 등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은 과학적 방법의 응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학과 약학은 엄격한 실험적 테스트를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종 인공물들도 엄격한 실험적 테스트 받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의 방법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의 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실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론 입증 실험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변수에 따른 결과 변화 관찰 실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모형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모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설적으로 설명하고 예측하기 위한 이론적 모형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대상과 환경을 모방한 스케일 모형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내용 개체 틀 5" descr="IMG_8924-1.JPG"/>
          <p:cNvPicPr/>
          <p:nvPr/>
        </p:nvPicPr>
        <p:blipFill>
          <a:blip r:embed="rId1"/>
          <a:stretch/>
        </p:blipFill>
        <p:spPr>
          <a:xfrm>
            <a:off x="539640" y="692280"/>
            <a:ext cx="4032360" cy="58658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4788000" y="2708280"/>
            <a:ext cx="3384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Georgia"/>
                <a:ea typeface="맑은 고딕"/>
              </a:rPr>
              <a:t>전형적인 </a:t>
            </a:r>
            <a:br>
              <a:rPr sz="2800"/>
            </a:br>
            <a:r>
              <a:rPr b="1" lang="ko-KR" sz="2800" spc="-1" strike="noStrike">
                <a:solidFill>
                  <a:srgbClr val="000000"/>
                </a:solidFill>
                <a:latin typeface="Georgia"/>
                <a:ea typeface="맑은 고딕"/>
              </a:rPr>
              <a:t>공학적 모형과 실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참 거짓을 따지는 실험이 아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속력에 따른 각 비행기 모형의 항력 증가 추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렇다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로 올수록 밀접해지는 과학과 기술의 관계는 어떻게 설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상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과 동기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법과 지식 형태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과 기술 사이의 다양한 접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물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도구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인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공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적 지식과 기술적 지식은 정말 다른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 </a:t>
            </a:r>
            <a:br>
              <a:rPr sz="4000"/>
            </a:b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2000" spc="-1" strike="noStrike">
                <a:solidFill>
                  <a:srgbClr val="424456"/>
                </a:solidFill>
                <a:latin typeface="Trebuchet MS"/>
              </a:rPr>
              <a:t>아래 과제 중 하나를 골라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A4 </a:t>
            </a:r>
            <a:r>
              <a:rPr b="0" lang="ko-KR" sz="2000" spc="-1" strike="noStrike">
                <a:solidFill>
                  <a:srgbClr val="424456"/>
                </a:solidFill>
                <a:latin typeface="Trebuchet MS"/>
              </a:rPr>
              <a:t>한 페이지 이내로 작성하여 제출하시오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정한 발명의 잠재적 편익이 다른 보완적 기술과 결합함으로써 온전히 실현된 사례를 찾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이 정립되지 않아 기술의 이익을 극대화지 못하는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과거의 표준 때문에 새로운 기술의 도입이 지체되는 경우를 찾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 이론이나 과학적 발견이 기술 발전을 가이드한 사례 또는 반대로 기술 발전이 관련 과학 분야의 성장을 촉진한 사례를 찾아 그 과정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거의 원시적 기술과 달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작동이나 실패는 과학적으로 설명되거나 예측될 수 있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문제의 해법은 과학 이론이 제공해준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 이론이 기술적 문제 해결을 가이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먹구구와 단순한 시행착오의 방법을 탈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신뢰하기 어려운 효능 보고가 아닌 체계적이고 엄격한 과학적 시험 절차에 의해 기술의 효능이나 안전성이 정당화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(e.g.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조군 실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계분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및 시뮬레이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약 실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차원 분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문제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역사적 사실과의 불일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혁명과 과학 이론 사이의 무관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과 열역학의 선후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자기학과 실제 모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전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 사이의 간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행기 기술과 기존 과학 사이의 양립 불가능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이트 형제의 비행기 발명 전까지 과학자들은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기보다 무거운 물체가 하늘을 날 수 없다고 생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9" name="Picture 2" descr="라이트형제의 플라이어호"/>
          <p:cNvPicPr/>
          <p:nvPr/>
        </p:nvPicPr>
        <p:blipFill>
          <a:blip r:embed="rId1"/>
          <a:stretch/>
        </p:blipFill>
        <p:spPr>
          <a:xfrm>
            <a:off x="5940360" y="5037120"/>
            <a:ext cx="2519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8-19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세기 산업혁명에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대한 평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혁명을 이끈 주요 기계들 ≠ 과학적 성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그브리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직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제니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라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발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수력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크롬퓨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뮬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카트라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역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와트의 증기기관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조지프 블랙의 잠열 이론 응용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 No!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뉴커먼 기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내용 개체 틀 6" descr="cornewc.gif"/>
          <p:cNvPicPr/>
          <p:nvPr/>
        </p:nvPicPr>
        <p:blipFill>
          <a:blip r:embed="rId1"/>
          <a:stretch/>
        </p:blipFill>
        <p:spPr>
          <a:xfrm>
            <a:off x="2916360" y="1177920"/>
            <a:ext cx="5688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와트의 개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내용 개체 틀 7" descr="corwatt.gif"/>
          <p:cNvPicPr/>
          <p:nvPr/>
        </p:nvPicPr>
        <p:blipFill>
          <a:blip r:embed="rId1"/>
          <a:stretch/>
        </p:blipFill>
        <p:spPr>
          <a:xfrm>
            <a:off x="3132000" y="1122480"/>
            <a:ext cx="555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와트의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회전운동 기관</a:t>
            </a:r>
            <a:br>
              <a:rPr sz="2800"/>
            </a:b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하운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회전운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Watt rotary motion"/>
          <p:cNvPicPr/>
          <p:nvPr/>
        </p:nvPicPr>
        <p:blipFill>
          <a:blip r:embed="rId1"/>
          <a:stretch/>
        </p:blipFill>
        <p:spPr>
          <a:xfrm>
            <a:off x="3203640" y="907920"/>
            <a:ext cx="5688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증기기관의 과학적 기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 기술은 과학에 여러 개념들 제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work)”, 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power)”, 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fficiency)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의 효율을 결정하는 요소가 무엇인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떻게 효율을 높일 수 있는지에 관한 공학적 문제가 열역학 형성에 결정적인 기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그림:Carnot heat engine 2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724280"/>
            <a:ext cx="4249800" cy="18702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5219640" y="5157720"/>
            <a:ext cx="35290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W =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 –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Hear Efficiency = W /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07:28Z</dcterms:created>
  <dc:creator>zolaist</dc:creator>
  <dc:description/>
  <dc:language>en-US</dc:language>
  <cp:lastModifiedBy>zolaist</cp:lastModifiedBy>
  <dcterms:modified xsi:type="dcterms:W3CDTF">2010-10-01T02:40:10Z</dcterms:modified>
  <cp:revision>37</cp:revision>
  <dc:subject/>
  <dc:title>현대기술과 공학은 응용과학인가?</dc:title>
</cp:coreProperties>
</file>